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D39A-690F-4E2E-B51B-6025ABBB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A34-7823-4A5B-949A-0E1E6CAF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B39C-1F2D-471F-8531-B2C305B7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D52-CF3E-4CF1-8DB0-221F86D4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3E2-8CC2-4B37-8073-8E307D29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C57-64EE-4F28-AB89-7FF06437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6C5-1F51-4863-B1B7-A1082B9B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49A-751B-49F0-A9AE-302E4E47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2B7-801C-410A-A2C4-1E540FAD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92D-D7AD-47DF-9BB5-60A5EA5F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12E-B3D1-487E-AF76-F22DF2B3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EC1-66EA-43A7-A809-0A63546C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A12D-1840-4706-BB6C-088496FF1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Qq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Vv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Ff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Zz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Hh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Kk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Jj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Arial"/>
              </a:rPr>
              <a:t>Ww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3:12:04Z</dcterms:created>
  <dc:creator> </dc:creator>
  <dc:description/>
  <dc:language>en-US</dc:language>
  <cp:lastModifiedBy>Help Desk</cp:lastModifiedBy>
  <dcterms:modified xsi:type="dcterms:W3CDTF">2009-09-04T22:04:33Z</dcterms:modified>
  <cp:revision>20</cp:revision>
  <dc:subject/>
  <dc:title>Slide 1</dc:title>
</cp:coreProperties>
</file>